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21E-82BB-4C36-966D-30B741C3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53D-DE16-4818-956A-143C0C11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14E-DD2A-4B93-A741-5ABC320E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522-9B6E-45FC-986C-1655FA78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C310-59F8-4533-9F41-1B58AB13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377E-5F48-4FF0-A2C4-970FE443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1E4-124B-42AF-96F0-C03DA428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D026-5734-43E2-A97A-5C6708AF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310-C903-414B-AFEE-227BE92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304C-018D-4EAE-BAA1-D15A9F1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E8CD-1FB0-46E7-AA14-4BCE9ECF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72F-2D7D-47D6-951D-84DE0428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5F96-CF97-46A3-86A8-4F4BA5C0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7DCA-7029-4EE9-A1C9-DEA0ECD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F0AC-AAAC-4D35-9145-BEE2918F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E257-BEE1-45E6-A5B5-9CED98EB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BEF6-F4B6-4CBF-91DD-4D8DF1BA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6FD-4847-4FEE-AA2E-A3C6D5B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9B9-2B5E-49DA-8FFB-766835F9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E41-163B-4861-A6BC-0C566745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B7F-114C-44D2-9D34-CD2E08D7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B08-6D28-41B3-A02F-3255660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150-F078-4E9E-A04E-D458000E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3D4-FDE0-43E9-8671-C98C1BC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FFD-97DF-455B-81B9-45AD536BFE7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5A85-05C4-4090-BAA5-7DE04869A23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12949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Times New Roman"/>
              </a:rPr>
              <a:t>Нормативно–правовое обеспечение детского каникулярного отдых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7432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ркова Евгения Витальевн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ущий специалист комитета Администрации Шелаболихинского района по образова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Отчетные документы 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7760" y="1628280"/>
            <a:ext cx="762624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ления от родите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каз директора об открытии ДОЛ с дневным пребыванием при школ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ки детей по форме (срок пребывания, Ф.И.О ребенка, дата рождения, дом. адрес, телефон, место работы родителе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ель посещаемости де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невная ведомость расхода продуктов на каждый ден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-фактура на приобретение продук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ю-раскладка на каждый ден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ы приобретения продуктов у насе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Требования Роспотребнадзор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773000"/>
            <a:ext cx="762624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пищеблока для осуществления пит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чень документов, которые должны находиться на пищеблок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ьные смывы, пробы блю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тилированная во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уральные продукты питания (мясо, морская рыба, молочные продукт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ощи, фрук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-витаминизац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Йодированная сол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ешение Роспотреб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зо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открытие оздоровитель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людение гигиенических требова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ное десятидневное меню до 21 мая (в трех экземпляра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Требования госпожнадзор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эвакуац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а электроприборов, электрических щит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сные выход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тренировочных занятий по отработке навыков пожарной безопас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Создание безопасных условий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 в ДОЛ при школе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ктаж о поведении на воде, в походе, на экскурсии, в поезд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кции по ТБ, журнал инструктаж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рнал регистрации несчастных случаях с обучающими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течка, инструкции по оказанию первой доврачебной помо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Трудоустройство несовершеннолетних 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7760" y="184464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ка о трудоустройств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говор с Центром занятости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ок де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пия паспор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пия сберегательной кни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пия СНИЛ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ель посещаемости и учета рабочего време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датайство в комитет по образованию о выделении денежных средств на оплату труда несовершеннолетн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Times New Roman"/>
              </a:rPr>
              <a:t>Финансово-экономическая документация. 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финансово-бухгалтерской отчет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о расходовании родительской д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Times New Roman"/>
              </a:rPr>
              <a:t>Приобретение путевок в ДОЛ </a:t>
            </a:r>
            <a:br>
              <a:rPr sz="3200"/>
            </a:b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через управление социальной защиты населения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ка в комитет по образованию,  управление социальной защиты населения (об оплате полной стоимост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кет документов на каждого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ЧЕСКАЯ РАБО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ПРЕДУПРЕЖДЕНИЮ ПРАВОНАРУШЕНИЙ, ПРЕСТУПЛЕНИЙ, БЕСПРИЗОРНОСТ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СОВЕРШЕННОЛЕТНИХ В ЛЕТНИЙ ПЕРИОД</a:t>
            </a:r>
            <a:endParaRPr b="0" i="1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79600" y="1773360"/>
          <a:ext cx="7626240" cy="4908600"/>
        </p:xfrm>
        <a:graphic>
          <a:graphicData uri="http://schemas.openxmlformats.org/drawingml/2006/table">
            <a:tbl>
              <a:tblPr/>
              <a:tblGrid>
                <a:gridCol w="762624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сть учащихся, состоящих на учете ВШК, КДН и ЗП, РОВ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организацией летней занятости детей и подростков, склонных к совершению правонарушений и преступлений, на территории Шелаболихинского 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в трудоустройстве подростков из малоимущих семей, подростков, состоящих на профилактическом уч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рейд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обследованию, выявлению семей, находящихся в социально опасном положении, обеспечению условий проживания подростков из этих сем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ыявлению подростков, употребляющих спиртные напитки, наркотические, токсические и другие одурманивающие веществ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нятости подростков, находящихся в социально опасном положени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блюдению режима дня школьниками в летни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краевых и районных акциях, операциях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знадзорность»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дросток-2010»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Жестокое обращение с детьми»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ерем детей в школу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996633"/>
                        </a:buClr>
                        <a:buSzPct val="9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лыш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желание –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 одного правонарушения и преступления летом 2010 года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роприятия по профилактик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ого дорожно-транспортного травматизма в летний период  2010 года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мплекса мероприятий по обеспечению безопасного дорожного движения при организованных перевозках детей за пределы Шелаболихинского рай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айонного этапа соревнований юных велосипедистов «Безопасное колесо 2010» 26 мая 2010 го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раевом соревновании юных велосипедистов «Безопасное колесо 2010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одительских собраний по вопросу профилактике детского дорожно-транспортного травматизма в летний пери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занятий по основам дорожной безопасности «Школа светофорных наук» в ДОЛ с дневным пребыванием при школах рай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омплекса воспитательно-пропагандистских мероприятий по организации безопасного массового отдыха детей и подростков в ДОЛ с дневным пребыванием при школах район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хем безопасного пути школьника, общей схемы «Безопасный путь от школы до дома и обратно» (в школьном коридоре, рекреац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на территории района профилактических мероприятий в рамках Всероссийских операц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нимание – дети!» (перед летними каникулам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 – дети идут в школу!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Загородные оздоровительные лагеря и краевые профильные смен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ыездов учащихся в загородные лагеря, в том числе в летние краевые профильные смен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«Чайка» Тюменцевского района – июнь-июль-авгус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ос» Павловского района – июнь-июл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ружба» Павловского района - июнь-июл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Юность» Рубцовского района – июл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ДД «Алтай 2010» -  с 03 по 12 июл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ая смена «Зеленые колокола» с 1 по 05 июн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 «Березка» - июнь-ию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Безопасное колесо» - июль-авгус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Юные пожарные» - авгу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buClr>
                <a:srgbClr val="996633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лина добрых сердец» для детей, состоящих на учете - ию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Нормативно-правовое обеспечение детского каникулярного отдыха (региональные документы)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 «Об обеспечении отдыха, оздоровления и занятости детей в 2010 году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новление Администрации Алтайского края  от 05.02.2010 № 36 «Об организации в 2010 году  отдыха детей, их оздоровления и занятости»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новление Администрации Шелаболихинского района  от 30.04.2010 № 184 «О порядке организации оздоровления, отдыха и занятости детей  в летнее каникулярное время на территории Шелаболихинского района в 2010 год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новление Главного государственного санитарного врача по алтайскому краю от 17.04.2009 № 04 «Об обеспечении отдыха, оздоровления и занятости детей в 2009-2010 годах в Алтайском кра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Знаменательные дат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 65-летия победы советского народа в Вели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тинг «День памяти и скорб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курс рисунков, стихов, сочинений «И помнит мир спасенный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чер «Юнги великой Отечественной войны» («Классный руководитель»2010 №1),  «Русские  мальчишки» («Праздник» 2005 №1),»Дорожкой фронтовой» («Праздник» 2004 №3), «Память огненных лет», «Поклонимся великим тем годам» («Музыкальный руководитель» 2010 №2), «не забудем их подвиг великий» («Музыкальный руководитель» 2010 №2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Знаменательные дат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славу великой победы» («Вожатый века» 2008 №2), «Дорожкой фронтовой» («Праздник 2004 №3),«Катюша» («Праздник» 2005 №1), «Сестры нашей Победы» («Праздник» 2004 №1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фотоколлажей «Они защищали Родину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исследовательских работ «Наследники великой Победы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и «История, которую можно потрогать руками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 детских проектов «Памяти павших будьте достойны»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6633"/>
                </a:solidFill>
                <a:latin typeface="Times New Roman"/>
              </a:rPr>
              <a:t>Знаменательные даты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 учи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курс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чинений  «Учительница первая моя», «Школьные годы чудесные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их работ «Педагогическая династ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тавка «Творчество юных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тер-класс «Жить, не болея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ская площадка «Лето, гитара и я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рческие мастерск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и детских проектов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Локальные документы учреждений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в учреждения, отражающий особенности воспитательной деятельности учре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говор с учредител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комитета Администрации Шелаболихинского района  по образованию о безопасности в летний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аз директора учреждения по организации летнего отдыха, труда и занят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аз директора учреждения об открытии ДОЛ с дневным пребыванием при шк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явления от родителей о зачислении в ДОЛ с дневным пребыванием при школ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Локальные документы учреждений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татное расписание сотрудников ДОЛ с дневным пребыванием при школе на каждый сезон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жностные инструкции сотрудников ДОЛ с дневным пребыванием при школ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кции по ТБ, журнал инструктаж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итарные книжки работников ДОЛ с дневным пребыванием при школ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приемки ДОЛ с дневным пребыванием при школ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Локальные документы учреждений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рнал регистрации несчастных случаях с обучающими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роизводственного контроля на летн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2010 года 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 с дневным пребыванием при школ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рнал поступления и выбытия детей в ДОЛ с дневным пребыванием при школ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Локальные документы учреждений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деятельности (развития) ДОЛ с дневным пребыванием детей (Положени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лендарный и тематический планы работы по сезонам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а «Лето - 2010» учреждения, организующего отдых, оздоровление и деятельность детей и подрост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ы работы педагогов, организующих воспитательный процесс (Положения о работе отрядов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 работы школьной и сельской библиотеки в летний 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ы работы детских коллектив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 сотрудничества ОУ с МУК, Д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 работы по профилактике правонарушений несовершеннолетних в летний 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 работы по профилактике детского дорожно-транспортного травматизма в летний 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Локальные документы учреждений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традь планер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околы, итоговые таблицы, экраны  смотров, конкурсов, соревнований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иторинг социально-педагог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ы входной, текущей и итоговой педагогической диагности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ицинский анализ оздоровления де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течка, инструкции по оказанию первой доврачебной помощ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Локальные документы учреждений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773000"/>
            <a:ext cx="76262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ель посеща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омость сдачи родительской до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ски детей различных категорий, их занятость в летний пери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стоящих на ВШ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-сирот, детей, оставшихся без попечения родител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 из малообеспеченных сем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 из многодетных сем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 из неблагополучных сем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, находящихся в социально-опасном положении и др.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Times New Roman"/>
              </a:rPr>
              <a:t>Оформление комнаты отдых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голок – красочный стен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работы на сезон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работы на каждый де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ран настро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брика «Творчество детей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брика «65-ая годовщина Победы в ВОВ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брика «Это полезно знать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брика «Наши именинники»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тольные иг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евые игры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17T01:30:26Z</dcterms:modified>
  <cp:revision>41</cp:revision>
  <dc:subject/>
  <dc:title>PowerPoint Presentation</dc:title>
</cp:coreProperties>
</file>