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6ED-1195-43C8-8D11-1F40E8EE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D04-86DD-4C8C-BFB9-3F60CB7D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FF3-A68B-44F6-966F-F39008B6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3F4-6A44-4F6C-A2AA-33C0B0A4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6AC-20A5-4D55-976A-671DAC7A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5E4-39C5-495A-B1BD-2F57EE10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E84-5C55-46A5-A647-528BFFE2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7F4F-5E54-4894-B0D4-B606D6EE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FD7-540B-4FA4-9F20-8C782B76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174-2981-4A5A-8A5D-61A8478B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E32-BA3E-46E4-A780-BBF446FC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331-129D-48AE-A916-759F4FF7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9C9C-5F09-47FE-9162-C2D8C46F5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295280" y="1143000"/>
            <a:ext cx="663912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оритеты</a:t>
            </a:r>
            <a:endParaRPr b="1" lang="en-US" sz="96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09680" y="3124080"/>
            <a:ext cx="4810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та - 2010</a:t>
            </a:r>
            <a:endParaRPr b="1" lang="en-US" sz="80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Нормативная б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рограмма развития воспитания детей и учащейся молодежи в системе образования Алтайского края на 2006 – 201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онцепция модернизации дополнительного образования  детей РФ до 201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онцепция Федеральной целевой программы развития образования на 2006 – 2010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ациональная  доктрина образования в Российской Федерации  до 2025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6212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09 апреля  2010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едагоги из 13 образовательных учреждений района приняли участие в окружном семинаре организаторов каникулярного отдыха, оздоровления и занятости детей и подрост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«Педагогика каникул», который прошел  в районном центре Тюменц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4800600" cy="3537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800600" y="152280"/>
            <a:ext cx="4343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уководитель МОУДОД «Шелаболихинский ЦДТ Руденко Е.А награждена грамотой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степени, как 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окружном этапе смотра-конкурса методических материалов «Методический марафон» в номинации «Программа нового покол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едставлена была  программа сольного объединения «Радуга голос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572000" cy="6086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8320" y="228600"/>
            <a:ext cx="44956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Руденко Е.А, как руководитель МОУДОД «Шелаболихинский ЦДТ» и Харламова Н.В., как зам.директора по учебно-воспитательной работе награждены грамотой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степени, к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 окружном этапе смотра-конкурса методических материалов «Методический марафон» в номинации «Программа развития ЦД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Харламова Н.В. Награждена грамотой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степени в окружном этапе смотра-конкурса методических материалов «Методический марафон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 номинации «Социально-педагогические проекты» (проект «Связь поколений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228600"/>
            <a:ext cx="456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 крае программа развития  заняла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мес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749680"/>
            <a:ext cx="5019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рограмма опубликована в сборнике методических материалов «Компетентностный подход в программировании деятельности учреждения дополнительного образования детей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выпущенный управлением Алтайского края по образованию и делам молодежи, 2010 г.,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ДОЛ с дневным пребыванием при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родолжительность смены в  ДОЛ с дневным пребыванием  при школах  в количестве 18 рабочих дней, при условии шестидневной рабочей неде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Стоимость набора продуктов питания, исходя из фактически сложившихся цен, в размере 80 рублей в д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лная  стоимость путевки в ДОЛ с дневным пребыванием при школах района -  2115-00 рублей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Размер родительской доли в стоимости путевки в ДОЛ с дневным пребыванием при школах района – 10 % (211,5 рубл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 М Е Т А  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а содержание детских оздоровительных лагерей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 дневным пребыванием при школах в Шелаболихинском районе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 летний период 2010 года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320" y="1219320"/>
          <a:ext cx="8915400" cy="5438520"/>
        </p:xfrm>
        <a:graphic>
          <a:graphicData uri="http://schemas.openxmlformats.org/drawingml/2006/table">
            <a:tbl>
              <a:tblPr/>
              <a:tblGrid>
                <a:gridCol w="4195800"/>
                <a:gridCol w="1628640"/>
                <a:gridCol w="1628640"/>
                <a:gridCol w="146232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тои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уте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Районный бюдж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редства соц. защ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Количество детей  1- 4 к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4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должительность одной смены (дн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личество де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3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2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Расходы (руб)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на двухразовое  горячее  пи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67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5952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асходы на содержание детей в детском оздоровительном лагере с дневным пребыванием  (руб.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7,5 руб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347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на 644 дет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7,5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0254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родительская доля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,75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258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на 186 дете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бюджет Шелаболихинского района (9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5,75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2995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Лагерь труда и отдыха учащихся 5-8, 10 классов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Продолжительность смены в лагерях труда и отдыха при школах  района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-6 классы - 10 дн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7-8 классы - 12 д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 класс - 18 д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228600"/>
          <a:ext cx="8839080" cy="6761160"/>
        </p:xfrm>
        <a:graphic>
          <a:graphicData uri="http://schemas.openxmlformats.org/drawingml/2006/table">
            <a:tbl>
              <a:tblPr/>
              <a:tblGrid>
                <a:gridCol w="3657240"/>
                <a:gridCol w="1371600"/>
                <a:gridCol w="1295640"/>
                <a:gridCol w="914400"/>
                <a:gridCol w="1600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Количество детей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-8,10кл (чел.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родолжительность смены (дне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 - 6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 - 8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 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Количество дето-дней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-6 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-8 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 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Расходы (руб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на одноразовое   горячее  пит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0 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-6 к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4000,00 руб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0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-8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0160,00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0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4960,00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Бюджет Шелаболихинского рай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49120,00 ру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ОСТАВ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комиссии по приемке детских оздоровительных 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лагерей  с дневным пребыванием при школах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219320"/>
          <a:ext cx="8686440" cy="5486040"/>
        </p:xfrm>
        <a:graphic>
          <a:graphicData uri="http://schemas.openxmlformats.org/drawingml/2006/table">
            <a:tbl>
              <a:tblPr/>
              <a:tblGrid>
                <a:gridCol w="1863360"/>
                <a:gridCol w="68230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орсина Т.Е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едседатель комитета Администрации Шелаболихинского района по  образованию, председатель   комисс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Юркова Е.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едущий специалист комитета Администрации района по образованию, заместитель председателя комисси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Члены комисс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Чурилова М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Заведующий инспекторским отделом комитета Администрации Шелаболихинского района по  образованию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Чекрыжов В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нспектор ПБДД ОГИБДД ОВД по Шелаболихинскому району;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Шишов Н.А.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нспектор отделения профилактики правонарушений, преступлений несовершеннолетних ОВД по Шелаболихинскому район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Чижиков А.С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тарший дознаватель по Шелаболихинскому району территориального отделения № 6 госпожнадзора (по согласованию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Райфшнайдер С.Я.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Главный санитарный врач Территориального отдела Территориального управления Федеральной службы по надзору  в сфере защиты прав потребителей и благополучия  человека по Алтайскому краю в Павловском, Ребрихинском и Шелаболихинском районах (по согласованию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049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Цель организации летнего отдыха, труда и занятости детей – это воспитани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3716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свободных, самостоятельных, активных детей, проявляющих инициативу в деятельности и общении, способных отстаивать собственное мнение, достоинство, индивидуа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интеллектуально развитых, имеющих собственные познавательные интере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эмоционально отзывчивых на состояние других людей, красоту окружающего мира и произведений искус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психологически подготовленных к переходу к новой жизни и участию в новой социальной ситуации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ПОРЯДОК РЕАЛИЗАЦИИ ДЕТСКИХ ПУТЕВОК В ЗАГОРОДНЫЕ ОЗДОРОВИТЕЛЬНЫЕ УЧРЕЖДЕНИЯ АЛТАЙСКОГО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Получатели путевок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дети от 7 до 15 лет (включитель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Средняя стоимость путевки в 2010 году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– 800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Источники финансировани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отдыха детей в загородных оздоровительных учреждениях Алтайского кр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0% стоимости путевки – средства краевого бюджета (4000,0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5%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средства работодателя одного из родителей (2800,0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5%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родительская доля путевки (1200,0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Шаг 1. Формирование зая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аявка на оздоровление детей в ЗОУ края составляется муниципальным органом управления образованием на основании заявлений родителей, поданных руководителю образовательного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водная заявка, подписанная главой муниципального образования (заместителем), направляется в управление Алтайского края по образованию и делам молодежи в установленные сроки для получения средств краевого бюджета (50% стоимости путев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Шаг 2 . Финансирование из краевого бюдже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редства краевого бюджета в соответствии с заявкой будут направлены через комитеты по финансам муниципальных образований для органов управления образованием, уполномоченных проводить детскую оздоровительную камп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Комитет по образованию осуществляет возмещение 50% стоимости путевки для детей своего райо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Шаг 3. Расчеты с работодателями,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  Работодатель и родитель перечисляют финансовые средства  на счет муниципального органа управления образованием (50% стоимости путевк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. Муниципальный орган управления образованием (образовательное учреждение), получив на свой расчетный счет средства краевого бюджета, работодателя и родительскую долю приобретает путевки для детей своего района согласно заяв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0" y="919080"/>
          <a:ext cx="9219960" cy="5938560"/>
        </p:xfrm>
        <a:graphic>
          <a:graphicData uri="http://schemas.openxmlformats.org/drawingml/2006/table">
            <a:tbl>
              <a:tblPr/>
              <a:tblGrid>
                <a:gridCol w="1873440"/>
                <a:gridCol w="734652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орсина Т.Е.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едседатель комитета Администрации Шелаболихинского района по  образованию, председатель комисс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Юркова Е.В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едущий специалист комитета Администрации района по образованию, заместитель председателя комиссии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Члены комисси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Лыгина В.В.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иректор краевого государственного учреждения «Центр занятости населения Шелаболихинского района» (по согласованию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Наумова Т.А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тветственный секретарь комиссии по делам несовершеннолетних  и защите их прав Администрации Шелаболихинского района;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Ефремова О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заведующий отделом по культуре и спорту  управления Делами Администрации района по вопросам организации местного самоуправления, социальной политики и кадрам;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Фролов С.Н.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начальник ОВД по Шелаболихинскому район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Чижиков А.С.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тарший дознаватель по Шелаболихинскому району территориального отделения № 6 госпожнадзора (по согласованию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Шумилов В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начальник Управления социальной защиты населения по Шелаболихинскому району(по согласованию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айфшнайдер С.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главный санитарный врач Территориального отдела Территориального управления Федеральной службы по надзору  в сфере защиты прав потребителей и благополучия  человека по Алтайскому краю в Павловском, Ребрихинском и Шелаболихинском районах (по согласованию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иреев А.В.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главный врач муниципального учреждения здравоохранения «Шелаболихинская центральная районная больниц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Тюнина Л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едседатель Муниципального Совета по развитию образования в Шелаболихинском районе (по согласованию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52280" y="0"/>
            <a:ext cx="9144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С О С Т А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районной межведомственной комиссии по координ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оздоровительной работы с детьми и подростками в 2010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Районный смотр-конкурс образовательных учреждений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о организации  каникулярного отдыха, оздоровления и 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занятости детей и подростков летом 2010 года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2743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роки проведения смотра-конкурса: с 25 марта по 01 сентября 2010 года. Смотр проводится в 4 эта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19520" y="990720"/>
          <a:ext cx="6324480" cy="6008400"/>
        </p:xfrm>
        <a:graphic>
          <a:graphicData uri="http://schemas.openxmlformats.org/drawingml/2006/table">
            <a:tbl>
              <a:tblPr/>
              <a:tblGrid>
                <a:gridCol w="749160"/>
                <a:gridCol w="1843200"/>
                <a:gridCol w="3732120"/>
              </a:tblGrid>
              <a:tr h="9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арт-май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одготовка документации в образовательных учреждениях  по организации лета-201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 этап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 01 мая по 01 июня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иемка оздоровительных лагерей с дневным  пребыванием, просмотр  документации  по организации лет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 этап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юнь-август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зучение опыта работы образовательных учреждений  по организации каникулярного отдых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здоровления и занятости детей и подростков летом 2010 год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4 этап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о 15 авгу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едставление в комитет по образованию информаций, альбомов, видеоматериалов, методической   выставки, фотоальбомов, сценариев и т.д. по организации  лета; подведение ито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МЕРОПРИЯТИЯ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О ОЗДОРОВЛЕНИЮ ДЕТЕЙ И ПОДРОСТКОВ ЛЕТОМ 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010 ГОДА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295280"/>
          <a:ext cx="9144000" cy="5486400"/>
        </p:xfrm>
        <a:graphic>
          <a:graphicData uri="http://schemas.openxmlformats.org/drawingml/2006/table">
            <a:tbl>
              <a:tblPr/>
              <a:tblGrid>
                <a:gridCol w="3781440"/>
                <a:gridCol w="2001960"/>
                <a:gridCol w="3360600"/>
              </a:tblGrid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абота детских оздоровительных лагерей с дневным пребыванием при школах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юнь-ию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митет по образованию, управление по социальной поддержке  населения, отдел по культуре, делам молодежи и спорту, ОУ района, ЦД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рганизация выездов учащихся в загородные лагер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 том числе в летние краевые профильные смен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юнь-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митет по образованию, ОУ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- экологическая сме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ОУОО «Шелаболихинская сош №2», комитет по образ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- «Безопасное колесо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ю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митет по образованию, ГИБ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- «Юные пожарны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митет по образ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-ЗО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 теч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л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митет по образованию, ОУ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-Смена для детей с девиантным повед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 теч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л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правление  по социальной поддержке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52280"/>
          <a:ext cx="9144000" cy="6553440"/>
        </p:xfrm>
        <a:graphic>
          <a:graphicData uri="http://schemas.openxmlformats.org/drawingml/2006/table">
            <a:tbl>
              <a:tblPr/>
              <a:tblGrid>
                <a:gridCol w="3913200"/>
                <a:gridCol w="1301760"/>
                <a:gridCol w="39290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здоровление детей в санаториях-профилактор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 теч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л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правление  по социальной поддержке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Направление несовершеннолетних, нуждающихся в реабилитации, в стационарное отделение краевого центра социально - психологической реабилитации насел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огласно графика проведения реабилитационных с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правление  по социальной поддержке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портивно-оздоровительная работа в течение лета (спортивные, игровые  вечерние площадки, спортивные секции, соревнования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 теч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л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У района, СДК, методисты по спорту, комитет по образован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рганизация работы с детьми, поступающими в 1 класс, «Школа будущего первоклассни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 теч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л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митет по образованию, ОУ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едицинское обслуживание оздоровительных лагерей с дневным пребывание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 теч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л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ЦР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чебно-полевые сборы для юношей 10 кл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митет по образованию, Павловский РВК, ОУ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тведение и оборудование специальных мест для купани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юнь-ию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Главы сельсов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МЕРОПРИЯТИЯ  ПО ОРГАНИЗАЦИИ ТРУДОВОЙ ДЕЯТЕЛЬНОСТИ ДЕТЕЙ И ПОДРОСТКОВ ЛЕТОМ 2010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2280" y="1066680"/>
          <a:ext cx="8839440" cy="5638680"/>
        </p:xfrm>
        <a:graphic>
          <a:graphicData uri="http://schemas.openxmlformats.org/drawingml/2006/table">
            <a:tbl>
              <a:tblPr/>
              <a:tblGrid>
                <a:gridCol w="3505320"/>
                <a:gridCol w="1752480"/>
                <a:gridCol w="358164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рганизация временного трудоустройства несовершеннолет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Центр занятости населения, ОУ района,  комитет по образ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- ремонтные брига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юнь-ию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митет по образованию,  ОУ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- отряды по благоустройству села и экологические отря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юнь-ию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митет по образованию, ОУ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тряды «Милосердие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оощрение лучших отря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юнь-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У района, комитет по образован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правление социальной защиты населения по Шелаболихинскому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- педагогические отря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юнь-ию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У района,  комитет по образ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- индивидуальное трудоустро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юнь-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У района, комитет по образованию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рганизация работы детей в «Малой Тимирязевк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юнь-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У района,  комитет по образ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иродоохранные акци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«Начни с дома своего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«Цвети, наш край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«Сохраним леса Алтая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«Водоемам нашу забот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 течение л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У района, комитет по образ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ЕРОПРИЯТИЯ ПО ОРГАНИЗАЦИИ ДОСУГОВОЙ ДЕЯТЕЛЬНОСТИ 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ДЕТЕЙ И ПОДРОСТКОВ ЛЕТОМ 2010 ГОДА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576360"/>
          <a:ext cx="9144000" cy="6191280"/>
        </p:xfrm>
        <a:graphic>
          <a:graphicData uri="http://schemas.openxmlformats.org/drawingml/2006/table">
            <a:tbl>
              <a:tblPr/>
              <a:tblGrid>
                <a:gridCol w="3886200"/>
                <a:gridCol w="5257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днодневные, двухдневные туристические п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У района,  комитет по образо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абота детских объединений по интерес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У района, СДК, ЦДТ, ДЮСШ,  комитет по образова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ведение школьных дискот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У района, СДК,  комитет по образо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абота разновозрастных отря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У района, СДК,  комитет по образо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Туристско-краевед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У района, ЦДТ, комитет по образованию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Летний спортивный сезон в ДЮС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митет по образованию, ДЮС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портивно-игровые и развлекательны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ДК, отдел по культуре, спорту и делам молодеж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узейные уроки и экскур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айонный муз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Библиотечные д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тдел по культуре, спорту и делам молодежи, сельские библиоте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раевой фестиваль юных экологов «Зеленые колокол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ОУОО «Шелаболихинская сош №2», комитет по образова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айонные соревнования по технике пешеходно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митет по образованию, ЦДТ, ОУ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ыпускные балы в школах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У района, СДК,  комитет по образо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Торжественный прием медалистов у Главы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митет по образованию, ОУ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ень защиты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У района, ЦДТ, СДК, комитет по образованию, отдел по культуре, делам молодежи и спор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семирный день охраны окружающе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У района, СДК, комитет по образова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ень независимости Рос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У района, СДК,  комитет по образо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ень памяти и скорб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У района, СДК,  комитет по образо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раздник, посвященный 25-летию район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У района, ЦДТ, СДК, комитет по образованию, отдел по культуре, делам молодежи и спорт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ечера отдыха «Прощай, лет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ДК, ОУ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457200"/>
            <a:ext cx="830592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6600"/>
                </a:solidFill>
                <a:uFillTx/>
                <a:latin typeface="Arial"/>
              </a:rPr>
              <a:t>Формы организа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6600"/>
                </a:solidFill>
                <a:uFillTx/>
                <a:latin typeface="Arial"/>
              </a:rPr>
              <a:t>лета-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ский оздоровительный лагерь - 10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городные  лагеря -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алаяТимирязевка - 12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м.бригада - 2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.трудоустройство -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.отряд -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ряд «Милосердие» - 1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ий отряд -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ряд по благоустройству села - 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возрастный отряд - 2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ходы, экскурсии - 14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ужки - 2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кола будущего первоклассника - 1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черние игровые спортивные площадки-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21337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ПРОФИЛАКТИЧЕСКАЯ РАБОТА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ПО ПРЕДУПРЕЖДЕНИЮ ПРАВОНАРУШЕНИЙ, ПРЕСТУПЛЕНИЙ,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БЕСПРИЗОРНОСТИ НЕСОВЕРШЕННОЛЕТНИХ В ЛЕТНИЙ ПЕРИОД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762120"/>
          <a:ext cx="9144000" cy="5568840"/>
        </p:xfrm>
        <a:graphic>
          <a:graphicData uri="http://schemas.openxmlformats.org/drawingml/2006/table">
            <a:tbl>
              <a:tblPr/>
              <a:tblGrid>
                <a:gridCol w="5348160"/>
                <a:gridCol w="1101960"/>
                <a:gridCol w="26938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-об организации реабилитационной работы с детьми, совершившими общественно-опасные деяния и не подлежащие уголовной ответственности в связи с не достижением возрас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ВД по Шелаболихинскому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-об организации летней занятости детей и подростков на территории Шелаболихин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ДН и ЗП, комитет по образованию, Центр занятости населения, управление   социальной  защиты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- о соблюдении трудового законодательства в отношении работающих несовершеннолетних на территории Шелаболихин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ДН, отдел по труду Администрации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айонные рейд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о обследованию, выявлению семей, находящихся в социально опасном положении, обеспечению условий проживания подростков из этих семе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о выявлению подростков, употребляющих спиртные напитки, наркотические, токсические и другие одурманивающие веществ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о занятости подростков, находящихся в социально опасном положен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о соблюдению режима дня школьниками в летни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 течение л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ДН и ЗП, комитет  по образова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частие в краевых и районных акциях, операция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«Безнадзорность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«Подросток-2010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«Жестокое обращение с детьми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«Соберем детей в школу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«Малыш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 течение л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ДН, комитет по образованию, управление по социальной поддержке населения, РОВД, ОУ района, женсов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одействие в трудоустройстве подростков из малоимущих семей, подростков, состоящих на профилактическом уче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 течение л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ДН, комитет по образованию, управление по социальной защите населения, центр занятости населения, ОУ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Мероприятия по профилактике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детского дорожно-транспортного травматизма в летний период  2010 год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143000"/>
          <a:ext cx="9144000" cy="5560920"/>
        </p:xfrm>
        <a:graphic>
          <a:graphicData uri="http://schemas.openxmlformats.org/drawingml/2006/table">
            <a:tbl>
              <a:tblPr/>
              <a:tblGrid>
                <a:gridCol w="5138640"/>
                <a:gridCol w="1173240"/>
                <a:gridCol w="2832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ведение целевых проверок состояния технических средств регулирования дорожного движения в местах массового нахождения детей и подростков – около образовательных учреждений района (детских садов, школ, центров дополнительного образования дет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-авгу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ГИБДД ОВД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ведение комплекса мероприятий по обеспечению безопасного дорожного движения при организованных перевозках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-авгу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митет администрации района по образованию, руководители ОУ, ГИБДД ОВД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ведение районного этапа соревнований юных велосипедистов «Безопасное колесо 2010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6 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митет Администрации района по образованию, ГИБДД ОВД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частие в краевом соревновании юных велосипедистов «Безопасное колесо 2010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митет Администрации района по образованию, ГИБДД ОВД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ведение родительских собраний по вопросу профилактике детского дорожно-транспортного травматизма в летний пери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уководители 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ведение на территории района профилактических мероприятий в рамках Всероссийских операций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- «Внимание – дети!» (перед летними каникулами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- «Внимание – дети идут в школу!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ай- ию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- 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митет Администрации района по образованию, руководители ОУ, ГИБДД ОВД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занятий по основам дорожной безопасности «Школа светофорных наук» в ДОЛ с дневным пребыванием при школах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юнь-ию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уководители ОУ, ГИБДД ОВД по район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существление комплекса воспитательно-пропагандистских мероприятий по организации безопасного массового отдыха детей и подростков в ДОЛ с дневным пребыванием при школах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ай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ю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митет администрации района по образованию, руководители ОУ, ГИБДД ОВД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оставление схем безопасного пути школьника, общей схемы «Безопасный путь от школы до дома и обратно» (в школьном коридоре, рекреац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 началу учеб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уководители 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Приказ комитета Администрации Шелаболихинского района по образованию от 21.08.2009 № 234 «Об итогах районного смотра-конкурса ОУ по организации каникулярного отдыха, оздоровления и занятости детей </a:t>
            </a:r>
            <a:br>
              <a:rPr sz="20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и подростков летом 2009 г.»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сего за три сезон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было оздоровлено 1074  школьнико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что составляет 72,6 % от общего числа учащихся, из них 940 детей застрахованных граждан за счет средств социального страхования, 136 детей из малообеспеченных семей - за счет средств социальной защиты. Всего было потрачено на оздоровление детей 2227320 рублей, из них средств социального страхования 1201320 рублей, средств социальной защиты - 180000 рублей, родительская доля 240264 рублей, районная администрация – 605736 рублей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В июне работали ДОЛ при 14 школа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в них было оздоровлено 614 ребенка ( 523 ребенка на средства ФСС - 668 39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тыс. рублей, 91 школьник за счет средств соц. защиты населения  - 98582 тыс. рублей)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В июле работали 10 лагере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 дневным пребыванием при школах, которые посетили 327 детей (282 ребенка на средства ФСС -   360 39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ыс. рублей, 45 школьников за счет средств соц. защиты населения  -  81418 тыс. рублей)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В августе было организована работа в 5 лагеря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 это 135 детей (на средства ФСС -  142 5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тыс. рублей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се три сезона  организованы в Новообинцевской, Шелаболихинской № 2, Макаровской, Шелаболихинской № 1 и Крутишинской школах. Для детей было организовано двухразовое горячее питание, пристальное внимание уделялось ассортименту и качественным характеристикам пищевых проду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1932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ля всех без исключения школьников в 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                  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лета были организованы однодневные п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                  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 экскурсии, для 29 воспитан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                  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ПК "Пересвет" с 01  по 10 ию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ыл организован полевой 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 окрестности с.Батуро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и Центре Детского творчества бы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рганизован экологический отря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«Непоседы». В состав от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ходило 27 человек , 5 из них бы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рудоустроены через Центр занят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аселения. Возраст отрядовцев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т 6 до 15 лет. Отряд работал под девиз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«Главное – вместе! Главное – дружно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 нашем отряде равнодушных не нужно!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ебята реализовыв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экологический проект Землю ты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засоряй, мусор с пользой применя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876560"/>
            <a:ext cx="5410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Обеспечено участие детских 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елегаций района в следующих 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раевых профильных летних сменах: «Безопасное колесо» (4 ребенка), МЛДД «Алтай – 2009» (5 детей), «Юные пожарные» (10 детей), «Журналистский пленэр» - 3 ребенка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-45720"/>
            <a:ext cx="480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0 учащихся образовательных учреждений района с 01 по 11 июля и с 11 по 20 августа 2009 года отдыхали в краевом туристическом палаточном лагере для несовершеннолетних, находящихся в трудной жизненной ситуации в республике Горный Алтай, Чемальском районе, окрестностях села  Бешпельт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124600" y="2514600"/>
            <a:ext cx="4019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4419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Более 100 детей  отдохнуло в загородных стационарных лагерях, открытых на территории Алтайского края Тюменцевского района «Чайк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меиногорского района «Чайка», Павловского района «Колос», Калманского района «Дзержинец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. Рубцовск «Юность» для детей работников бюджетных и внебюджетных организ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бъявлена благодарность за хорошую организацию лета – 2009 с вручением денежной прем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Шелаболихинской средней школе № 2 – 1000 рубл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рутишинской средней школе - 1000 рубл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Макаровской средней школе  - 1000 ру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тмечен как положительный пример организация ДОЛ  «Непоседы» при МОУДОД «Шелаболихинский центр детского творчеств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Нормативная б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становление правительства РФ  «Об обеспечении отдыха, оздоровления и занятости детей в 2010 году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становление Администрации Алтайского края  №36 от 05.02.2010 г. Ад «Об организации в 2010 году  отдыха детей, их оздоровления и занятости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раевая целевая программа «Развитие системы летнего отдыха, оздоровления и занятости детей и подростков в Алтайском крае на 2009-2011г.г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раевая программа «Молодежь Алтая» на 2006 – 2010 г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ей</cp:lastModifiedBy>
  <dcterms:modified xsi:type="dcterms:W3CDTF">2010-05-21T02:51:3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